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751-8918-4A4F-862F-C2176EFA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48B-7D4F-4A9A-A870-1FDE4E15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6CD-DA3F-419D-9BBB-AC0AAC22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A89-01AC-44EF-8283-86ACC06E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FA1-5DB4-493D-92A7-FD9F3341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492-8E23-4B80-9268-ACFDA300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BAA-35A6-4CB2-81E2-FCF9DBEC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83D-BB5F-4F1E-9F55-62819F60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A8B-EA22-4E7F-A70F-6BC078FC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434-8FE2-4794-9BC4-2FD81145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206-1A81-48EC-A726-19A4773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5D3-C75F-464B-8BDB-EBCC7BB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9EBF-6A7E-4A85-8568-1B61FDA34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Language of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 of today’s lesson: to look at the language of newspapers, to consider emo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16720" y="4076640"/>
            <a:ext cx="2376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otiv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spapers want to sell as many copies of their papers as possible. They try to lure their readers into their pages with juicy gossip, prizes or powerful and emotive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OTIVE LANGUAGE is language aimed at appealing directly to your emo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15843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Your turn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of and write down an emotive word for the following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ing someone’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ing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eling very un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eling very cross about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group of bored teenagers vandal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Your Tas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write a newspaper article about a storm in Portishead that has damaged property and caused injuries/ a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You need to come up with the details and language to make this an emotive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headlines can you come up with for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1708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98508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98900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Now come up with your plan for the artic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35280" y="765000"/>
            <a:ext cx="2376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2205000"/>
            <a:ext cx="2232000" cy="2233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25653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your article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620640"/>
            <a:ext cx="288144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765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d paragraph – who, what, when, where,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3429000"/>
            <a:ext cx="28810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342900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has happened?  Describe the storm –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…  What vocabulary might hel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4292640"/>
            <a:ext cx="2087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3657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was hurt?  Noun phrases – how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5877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445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349360"/>
            <a:ext cx="16574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reports of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9079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 outcomes – what nex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916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789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03640" y="1773000"/>
            <a:ext cx="5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3860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916360" y="3789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700360" y="29973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203280" y="1844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5229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26560" y="4869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26920" y="350028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84360" y="227664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4:05:18Z</dcterms:created>
  <dc:creator>Sophie Williams</dc:creator>
  <dc:description/>
  <dc:language>en-US</dc:language>
  <cp:lastModifiedBy>Sophie Williams</cp:lastModifiedBy>
  <dcterms:modified xsi:type="dcterms:W3CDTF">2007-01-26T15:16:08Z</dcterms:modified>
  <cp:revision>2</cp:revision>
  <dc:subject/>
  <dc:title>The Language of Newspapers</dc:title>
</cp:coreProperties>
</file>